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77C7-F781-4112-AD04-446D5B581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4717-4FDF-4547-9BA9-E87FF63A9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B3EF-E9B3-4F00-9DC7-DB2885A0E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F950-7ACD-414E-8BFE-1D4DC1B96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040D-9799-4A8D-A998-56938F232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9BBB-C3CC-4394-AF9C-046B6B96B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74DD-70AC-44D3-B398-79151797B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4363-A958-4543-BAD1-0922FCDD4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6E67-AEE7-4FB6-9AE3-FB60D809C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6ABA-0622-4112-8019-901A6FF7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F8B5-530C-4BAB-AC68-F047F681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AA85-BCB2-4A7D-A17D-D2BDD2A5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968DE4-3013-4190-9B73-8D278D432AFC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ar.mp3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alk.mp3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speak%20softly.mp3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yes%202.mp3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lips.mp3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ps.mp3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food.mp3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ew.mp3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kind.mp3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polite.mp3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est.mp3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isten to the guide. Don't make any nois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79680" y="1768320"/>
            <a:ext cx="511956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Walk quietly. Don't r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85920" y="1768320"/>
            <a:ext cx="570708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peak softly. Don't shou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1640" y="1768320"/>
            <a:ext cx="399420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ook for informations on memorial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36760" y="1768320"/>
            <a:ext cx="7199280" cy="498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't talk. Be quie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38400" y="1768320"/>
            <a:ext cx="76039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o caps. Leave them hom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38200" y="1768320"/>
            <a:ext cx="72043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o food, no drink. Lunch in the lounge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44840" y="1768320"/>
            <a:ext cx="498960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o chewing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76200" y="1768320"/>
            <a:ext cx="752508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Be kind. Don't be nast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21040" y="1768320"/>
            <a:ext cx="423684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Be polite. Don't be rud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4800" y="1768320"/>
            <a:ext cx="88693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Be on your best behaviou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1768320"/>
            <a:ext cx="4289400" cy="4989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31T17:46:50Z</dcterms:created>
  <dc:creator>dominique  camier</dc:creator>
  <dc:description/>
  <dc:language>en-US</dc:language>
  <cp:lastModifiedBy>dominique  camier</cp:lastModifiedBy>
  <dcterms:modified xsi:type="dcterms:W3CDTF">2014-01-31T18:23:10Z</dcterms:modified>
  <cp:revision>14</cp:revision>
  <dc:subject/>
  <dc:title/>
</cp:coreProperties>
</file>