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A5A-A6DD-4FEE-896B-16770FBC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E43-D917-48A6-BAE5-7DFAFB4D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C40-E060-483E-BBE8-47422A26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7F2-E224-4E54-A0E6-6D5F0E8F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7BB-67BB-4F40-89FE-DDF25B3A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723-E20A-4425-A2CE-28396D1E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8A5-AC23-4961-B98B-41D0D0BC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6D5-4DFA-46B7-B719-20A609C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6CD-6393-4D7C-A29A-CBBFE0CF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083-8A8D-4984-B416-C670621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BD2-038F-42A8-8BDA-6D1543B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1C6-4072-43FC-8707-4034E00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5616A-AABE-4E69-BFE9-0E3C3201F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s%202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p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lk.mp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a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ind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eak%20softly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lite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ps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st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od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ew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9680" y="1768320"/>
            <a:ext cx="5119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1768320"/>
            <a:ext cx="5707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1640" y="1768320"/>
            <a:ext cx="39942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00" y="1768320"/>
            <a:ext cx="72007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0" y="1768320"/>
            <a:ext cx="7603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8200" y="1768320"/>
            <a:ext cx="7204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4840" y="176832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6200" y="1768320"/>
            <a:ext cx="7525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768320"/>
            <a:ext cx="42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768320"/>
            <a:ext cx="4289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6:50Z</dcterms:created>
  <dc:creator>dominique  camier</dc:creator>
  <dc:description/>
  <dc:language>en-US</dc:language>
  <cp:lastModifiedBy>dominique  camier</cp:lastModifiedBy>
  <dcterms:modified xsi:type="dcterms:W3CDTF">2014-03-05T10:18:05Z</dcterms:modified>
  <cp:revision>14</cp:revision>
  <dc:subject/>
  <dc:title/>
</cp:coreProperties>
</file>