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799-81AF-4C83-9DB8-F0BFD404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9FA-B646-46E6-8A25-E56A09B2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084F-97D8-4D80-B901-F93732DB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B43-E6F1-4301-8DCE-71D8FF9D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A4B-AB20-47D3-A137-58AE4370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257B-7636-4FB8-B409-73F8AEA8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88A-00CC-4C1F-B530-55EDF700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623-F9AC-45E0-AC0F-9B8C4335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046-2B9B-43B1-B933-A62ECFFB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E3F-511D-4F4F-8C67-031BB3F5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42C5-20CE-4505-9410-2CD489B4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B8E-8373-43E1-B1BE-B82AF1EF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92E9B-9739-455A-8F10-1A3D9355BE66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ar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alk.mp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eak%20softly.mp3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yes%202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ips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ps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ood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ew.mp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kind.mp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olite.mp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st.mp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sten to the guide. Don't make any no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79680" y="1768320"/>
            <a:ext cx="51195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alk quietly. Don't 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85920" y="1768320"/>
            <a:ext cx="57070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peak softly. Don't shou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1640" y="1768320"/>
            <a:ext cx="39942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ok for informations on memori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36760" y="1768320"/>
            <a:ext cx="7199280" cy="49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't talk. Be qui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38400" y="1768320"/>
            <a:ext cx="7603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o caps. Leave them ho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38200" y="1768320"/>
            <a:ext cx="72043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o food, no drink. Lunch in the lounge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44840" y="1768320"/>
            <a:ext cx="49896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o chewing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76200" y="1768320"/>
            <a:ext cx="75250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e kind. Don't be nas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21040" y="1768320"/>
            <a:ext cx="4236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e polite. Don't be ru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4800" y="1768320"/>
            <a:ext cx="88693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e on your best behaviou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768320"/>
            <a:ext cx="4289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6:50Z</dcterms:created>
  <dc:creator>dominique  camier</dc:creator>
  <dc:description/>
  <dc:language>en-US</dc:language>
  <cp:lastModifiedBy>dominique  camier</cp:lastModifiedBy>
  <dcterms:modified xsi:type="dcterms:W3CDTF">2014-01-31T18:23:10Z</dcterms:modified>
  <cp:revision>14</cp:revision>
  <dc:subject/>
  <dc:title/>
</cp:coreProperties>
</file>