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3A1-26D3-4F6C-936C-F03D4CD8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AA3-0255-45ED-8519-F2D3DC14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EDA-35F8-485F-9ED8-CDEB00D2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B1F-7795-45D7-B790-ABDC8AB2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DF5-5B3F-4B0A-92CC-69F58538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979-D5F7-4B7A-BAC5-07302C7F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E6F-9AAB-4885-ABC4-914506DC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236-38D4-4A73-A22F-AE6FE2EA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28A-3D30-4B03-ACF1-0F7A245C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CCC-607F-48D7-9DA5-EB661882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01A-47EE-4DEA-AD68-37DED1F3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9D9-603C-470E-9B23-5AE749D1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AC0AA-C854-46A8-8DB9-D868C3147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yes%202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ps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lk.mp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ar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ind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eak%20softly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olite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ips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st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ood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ew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79680" y="1768320"/>
            <a:ext cx="51195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5920" y="1768320"/>
            <a:ext cx="5707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1640" y="1768320"/>
            <a:ext cx="39942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000" y="1768320"/>
            <a:ext cx="72007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38400" y="1768320"/>
            <a:ext cx="7603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38200" y="1768320"/>
            <a:ext cx="7204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44840" y="176832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76200" y="1768320"/>
            <a:ext cx="7525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1040" y="1768320"/>
            <a:ext cx="4236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4800" y="1768320"/>
            <a:ext cx="8869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768320"/>
            <a:ext cx="4289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6:50Z</dcterms:created>
  <dc:creator>dominique  camier</dc:creator>
  <dc:description/>
  <dc:language>en-US</dc:language>
  <cp:lastModifiedBy>dominique  camier</cp:lastModifiedBy>
  <dcterms:modified xsi:type="dcterms:W3CDTF">2014-03-05T10:18:05Z</dcterms:modified>
  <cp:revision>14</cp:revision>
  <dc:subject/>
  <dc:title/>
</cp:coreProperties>
</file>