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7E7-08FC-4070-B5A7-8F7209D0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045-3B74-4F74-8F01-7B3F38A6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ED2-8A6E-4035-9FE0-9EE80B76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DD4A-89F4-4714-98C1-E1FCE615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001-4752-4F75-ADE3-7CC49E07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C26-770C-4C4B-944C-BA8BEA4B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228-A824-4E28-BF3C-7DCCAF4F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A18-FB55-4D9D-905C-A3ADC4E8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414-5904-4227-817B-C0B86EB3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01A-BF81-4A30-AA09-F7F22CE6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C4D-EE3C-4A62-9B41-DAD64C4B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AF8-2776-42D3-A480-0CC983AA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B43C3-06F5-468F-9F0B-7C80F62836A2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winter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nois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eadaches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leep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be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water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ee%20night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dark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lots%20love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ear%20joh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r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fleas%20lic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fight%20brave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rat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n%20happ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pain%20her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ow%20many%20room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too%20many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clean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col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afrai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care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cratch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tupid%20battle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on the pictures from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ick if there is a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oss if there is no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8:30:25Z</dcterms:created>
  <dc:creator>dominique  camier</dc:creator>
  <dc:description/>
  <dc:language>en-US</dc:language>
  <cp:lastModifiedBy>dominique  camier</cp:lastModifiedBy>
  <dcterms:modified xsi:type="dcterms:W3CDTF">2014-03-05T09:39:51Z</dcterms:modified>
  <cp:revision>27</cp:revision>
  <dc:subject/>
  <dc:title/>
</cp:coreProperties>
</file>