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26D-5B8B-4A96-BCFB-DDCAF1B9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DB3-0CB5-474F-ABBD-2F87A254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8AC-F1A6-4D56-974B-D1669EA4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122-8154-4A54-A83B-ADF1560C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5F1-4514-4AD7-A421-DA7AFE3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167-21B5-4B01-9D84-25E3FE9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F83-ADC5-48C0-AF65-B42CFAA2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005-67BE-40EB-B5FD-AEE3302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5FD-AD20-4AD7-A17A-11FD62E5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329-2639-4C53-A194-CF5A8B52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50C-68CD-4061-8262-CBCE94DA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AF3-6EE8-4093-B382-AF999DFC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4B56C-17B6-4D01-B0D6-42F369051E4A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ar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oo%20many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ter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m%2013%20fi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av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l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rk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head.mp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is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in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ats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y dear Joh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51600" y="2597040"/>
            <a:ext cx="442584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5160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51600" y="2935440"/>
            <a:ext cx="442584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ts of love from Mom and Dad,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51600" y="2881440"/>
            <a:ext cx="4425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2879640"/>
            <a:ext cx="44258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51600" y="2238480"/>
            <a:ext cx="44258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51600" y="2274840"/>
            <a:ext cx="44258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91160" y="1768320"/>
            <a:ext cx="354636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720" y="251928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51600" y="2658960"/>
            <a:ext cx="442584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1600" y="1936800"/>
            <a:ext cx="44258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30:52Z</dcterms:created>
  <dc:creator>dominique  camier</dc:creator>
  <dc:description/>
  <dc:language>en-US</dc:language>
  <cp:lastModifiedBy>dominique  camier</cp:lastModifiedBy>
  <dcterms:modified xsi:type="dcterms:W3CDTF">2014-02-01T13:02:24Z</dcterms:modified>
  <cp:revision>15</cp:revision>
  <dc:subject/>
  <dc:title/>
</cp:coreProperties>
</file>