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57A-EA09-4FB0-90AB-B51D178C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375-52C9-4F8E-BEF6-D2E0CF53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D11-D009-4647-8195-816B32F6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B1A-9442-4E76-8C21-6B795A24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515-12ED-47BE-AE12-211671DA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1A4-83F1-4EB5-ABF6-5AC40B77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31C-673D-4DA5-AE5A-6CEE5883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001-A0E8-4544-AD0B-E04C96DF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E91-FD3C-467C-A399-D7E8ACCA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9D9-4617-4F9E-ABAB-0C728CAD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E24-B059-419C-9F47-4DE2C5E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530-0C35-47D0-9D65-BF01047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EEB76-22D9-4CBA-8B0E-AAB9847F943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ar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oo%20many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ter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m%2013%20fi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av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l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rk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head.mp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is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in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ats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y dear Joh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51600" y="2597040"/>
            <a:ext cx="442584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5160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51600" y="2935440"/>
            <a:ext cx="442584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ts of love from Mom and Dad,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51600" y="2881440"/>
            <a:ext cx="4425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2879640"/>
            <a:ext cx="44258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51600" y="2238480"/>
            <a:ext cx="44258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51600" y="2274840"/>
            <a:ext cx="44258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91160" y="1768320"/>
            <a:ext cx="354636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720" y="251928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51600" y="2658960"/>
            <a:ext cx="442584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1600" y="1936800"/>
            <a:ext cx="44258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30:52Z</dcterms:created>
  <dc:creator>dominique  camier</dc:creator>
  <dc:description/>
  <dc:language>en-US</dc:language>
  <cp:lastModifiedBy>dominique  camier</cp:lastModifiedBy>
  <dcterms:modified xsi:type="dcterms:W3CDTF">2014-02-01T13:02:24Z</dcterms:modified>
  <cp:revision>15</cp:revision>
  <dc:subject/>
  <dc:title/>
</cp:coreProperties>
</file>