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BC1-E9FA-4C68-B821-7E116019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934-068A-42BC-A5DD-514FE91E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49D-20E5-4852-9306-A2BB7230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91D-2D90-404D-AA46-16CD011C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AAC-5C34-4B5E-BCC5-34AC0F5C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7A7-C2B3-466F-93DD-E909163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824-2FB7-488E-9FFD-CB06FCD1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18C-9086-49FF-8726-6F050F0F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758-CEAE-4261-8707-9CE91973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3CB-FD13-42D5-9620-DC2C572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A8C-B618-48E0-B981-A0E9E81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5EC-8493-490B-83FA-EED271C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4479-93B4-496D-96CD-AE4C032DF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1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1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2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2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3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3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4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4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5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5%20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chat%206.mp3" TargetMode="External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rendu%206.mp3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, listen and fill-i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141640"/>
            <a:ext cx="4425840" cy="424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6320" y="1768320"/>
            <a:ext cx="3417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2T10:01:07Z</dcterms:created>
  <dc:creator/>
  <dc:description/>
  <dc:language>en-US</dc:language>
  <cp:lastModifiedBy/>
  <dcterms:modified xsi:type="dcterms:W3CDTF">2014-03-22T10:34:14Z</dcterms:modified>
  <cp:revision>14</cp:revision>
  <dc:subject/>
  <dc:title/>
</cp:coreProperties>
</file>