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DC74-94A6-483F-B952-E76F2E861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573C-D5D5-400D-9376-A0358B6FF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4F63-D870-416F-8DA3-6C9DFBC7E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D9B4-736A-4BB4-B723-5481BE044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96FB-86E5-42C3-B067-5947C66DE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A568-9193-4925-88F6-6A50D5A8F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1CD8-5103-4070-A215-7EEDE8205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6340-36F4-4304-BF62-B6DBBC242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C013-5C1E-4A64-B8CD-924393234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7528-979A-4718-AD54-7CB0F3FFB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6878-E6C7-425F-91AB-AF62994A3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92BB-E5D5-417D-AF9D-796E4F45A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57E473-9B50-4B40-8EC6-48308F6084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chat%201.mp3" TargetMode="External"/><Relationship Id="rId2" Type="http://schemas.openxmlformats.org/officeDocument/2006/relationships/image" Target="../media/image2.jpeg"/><Relationship Id="rId3" Type="http://schemas.openxmlformats.org/officeDocument/2006/relationships/hyperlink" Target="file:///tmp/home/.config/libreoffice/4/user/gallery/rendu%201.mp3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chat%202.mp3" TargetMode="External"/><Relationship Id="rId2" Type="http://schemas.openxmlformats.org/officeDocument/2006/relationships/image" Target="../media/image2.jpeg"/><Relationship Id="rId3" Type="http://schemas.openxmlformats.org/officeDocument/2006/relationships/hyperlink" Target="file:///tmp/home/.config/libreoffice/4/user/gallery/rendu%202.mp3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chat%203.mp3" TargetMode="External"/><Relationship Id="rId2" Type="http://schemas.openxmlformats.org/officeDocument/2006/relationships/image" Target="../media/image2.jpeg"/><Relationship Id="rId3" Type="http://schemas.openxmlformats.org/officeDocument/2006/relationships/hyperlink" Target="file:///tmp/home/.config/libreoffice/4/user/gallery/rendu%203.mp3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chat%204.mp3" TargetMode="External"/><Relationship Id="rId2" Type="http://schemas.openxmlformats.org/officeDocument/2006/relationships/image" Target="../media/image2.jpeg"/><Relationship Id="rId3" Type="http://schemas.openxmlformats.org/officeDocument/2006/relationships/hyperlink" Target="file:///tmp/home/.config/libreoffice/4/user/gallery/rendu%204.mp3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chat%205.mp3" TargetMode="External"/><Relationship Id="rId2" Type="http://schemas.openxmlformats.org/officeDocument/2006/relationships/image" Target="../media/image2.jpeg"/><Relationship Id="rId3" Type="http://schemas.openxmlformats.org/officeDocument/2006/relationships/hyperlink" Target="file:///tmp/home/.config/libreoffice/4/user/gallery/rendu%205%20.mp3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chat%206.mp3" TargetMode="External"/><Relationship Id="rId2" Type="http://schemas.openxmlformats.org/officeDocument/2006/relationships/image" Target="../media/image2.jpeg"/><Relationship Id="rId3" Type="http://schemas.openxmlformats.org/officeDocument/2006/relationships/hyperlink" Target="file:///tmp/home/.config/libreoffice/4/user/gallery/rendu%206.mp3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979640" y="179280"/>
            <a:ext cx="6119640" cy="702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lick, listen and fill-in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141640"/>
            <a:ext cx="4425840" cy="42447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56320" y="1768320"/>
            <a:ext cx="341784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lick, listen and fill-in 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141640"/>
            <a:ext cx="4425840" cy="4244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56320" y="1768320"/>
            <a:ext cx="341784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lick, listen and fill-in 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141640"/>
            <a:ext cx="4425840" cy="42447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56320" y="1768320"/>
            <a:ext cx="341784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lick, listen and fill-in 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141640"/>
            <a:ext cx="4425840" cy="42447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56320" y="1768320"/>
            <a:ext cx="341784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lick, listen and fill-in 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141640"/>
            <a:ext cx="4425840" cy="42447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56320" y="1768320"/>
            <a:ext cx="341784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lick, listen and fill-in 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141640"/>
            <a:ext cx="4425840" cy="4244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56320" y="1768320"/>
            <a:ext cx="3417840" cy="4989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2T10:01:07Z</dcterms:created>
  <dc:creator/>
  <dc:description/>
  <dc:language>en-US</dc:language>
  <cp:lastModifiedBy/>
  <dcterms:modified xsi:type="dcterms:W3CDTF">2014-03-22T10:34:14Z</dcterms:modified>
  <cp:revision>14</cp:revision>
  <dc:subject/>
  <dc:title/>
</cp:coreProperties>
</file>