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F04-7794-4BEF-B65A-A6BF5FD2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BA0-6F9D-4471-AFB8-06446FBE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C37-878E-4B60-9BE3-5A7C828A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F89-EA80-4B98-8747-9F4E2597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21E-EAB8-4891-AD97-B6CBD65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1C0-809F-4318-9903-0DF389A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AC6-661D-4DA5-85C6-5CA659D7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216-987E-481D-89F4-F39C318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241-2210-408A-BE7F-3D0D9377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F15-1041-47B8-ABD8-FDD9653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607-782F-464D-AF9E-5AA873A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B02-F13B-4FE0-AB3F-58F5A8C8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D33BD-D725-41C3-99FD-A328F54A9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t%201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coat%202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shirt%203.mp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own%20boots%204.mp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een%20boots%205.mp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ue%20shirt%206.mp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uy Fawkes, the suspect..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listen and fill-in the ga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62040" y="1768320"/>
            <a:ext cx="69534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ack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is …  wa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_ He was we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ack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63520" y="1768320"/>
            <a:ext cx="31068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a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brow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2760" y="1768320"/>
            <a:ext cx="3210120" cy="4989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 were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brow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green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ere they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7560" y="1768320"/>
            <a:ext cx="3259080" cy="498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.wer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gre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e was wearing something blue.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hat was it 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8000" y="1768320"/>
            <a:ext cx="3417840" cy="498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is … wa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 was wearing a blu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08:51:56Z</dcterms:created>
  <dc:creator/>
  <dc:description/>
  <dc:language>en-US</dc:language>
  <cp:lastModifiedBy/>
  <dcterms:modified xsi:type="dcterms:W3CDTF">2014-03-22T09:28:57Z</dcterms:modified>
  <cp:revision>9</cp:revision>
  <dc:subject/>
  <dc:title/>
</cp:coreProperties>
</file>