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711-F8FF-4BB9-9C0D-106F608C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E39-57E7-4FA6-BCD0-5CA54C4A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590-1B46-4AC0-BC4D-FB0A2AC2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1AB-FDDB-4BCF-AE92-9C0648DC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7EB-BDB8-4239-B7C4-BEBC46D5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C2C-97E7-4F25-8F06-AC7FADC5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B29-BFE7-49B0-899C-0D675DCC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7A4-D4F1-48FC-9AC7-AE45853D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A7E-DA4A-4A6D-A929-A38BFE55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4AA-9743-449B-939C-46642BE9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0B0-5194-4065-8984-8B98216C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60A-003A-41A8-8688-2BEC8B52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46FC3-8E08-4509-BA8B-C6F8F33E0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t%201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coat%202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shirt%203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own%20boots%204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boots%205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shirt%206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uy Fawkes, the suspect..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listen and fill-in the ga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62040" y="1768320"/>
            <a:ext cx="6953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ack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is …  wa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e was we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ack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3520" y="1768320"/>
            <a:ext cx="31068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brow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1768320"/>
            <a:ext cx="321012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ere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brow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wer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8:51:56Z</dcterms:created>
  <dc:creator/>
  <dc:description/>
  <dc:language>en-US</dc:language>
  <cp:lastModifiedBy/>
  <dcterms:modified xsi:type="dcterms:W3CDTF">2014-03-22T09:28:57Z</dcterms:modified>
  <cp:revision>9</cp:revision>
  <dc:subject/>
  <dc:title/>
</cp:coreProperties>
</file>