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EC71-CF12-46D5-870D-417F2DEC0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23D1-33D7-4BDB-9D67-39F261BE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FA99-C423-4018-91A3-98B8777DD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3774-0EE9-4204-9F5E-78256BD01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F2EC-1940-4C33-9B4C-7DF9BF82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DF65-5207-434E-8AE1-C3FBAFD3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09BC-138E-4D5E-A047-7FF08EDC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7E73-2AE0-4898-AFC4-CD6F4324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B449-7329-4B63-89F5-8B43E378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D45C-340F-4F1A-8A5E-8F1DC6FB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3131-EA65-4A98-971B-DF384690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EF5D-F379-4D3E-B9DD-060DCC46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268D9-FECB-4528-A075-1354FD0417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lack%20hat%201.mp3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lue%20coat%202.mp3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reen%20shirt%203.mp3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rown%20boots%204.mp3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reen%20boots%205.mp3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lue%20shirt%206.mp3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Guy Fawkes, the suspect..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 to listen and fill-in the gap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62040" y="1768320"/>
            <a:ext cx="695340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something black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as it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08000" y="1768320"/>
            <a:ext cx="3417840" cy="4989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_ His …  was bl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_ He was wearing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lack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something blue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as it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7560" y="1768320"/>
            <a:ext cx="3259080" cy="4989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is …. was b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 was wearing a blue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something green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as it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63520" y="1768320"/>
            <a:ext cx="3106800" cy="49896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is …. was gr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 was wearing a green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brown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ere they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2760" y="1768320"/>
            <a:ext cx="3210120" cy="49896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is …. were br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 was wearing brown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green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ere they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7560" y="1768320"/>
            <a:ext cx="3259080" cy="49896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is ….were gr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 was wearing green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something blue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as it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08000" y="1768320"/>
            <a:ext cx="3417840" cy="4989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is … was b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 was wearing a blue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2T08:51:56Z</dcterms:created>
  <dc:creator/>
  <dc:description/>
  <dc:language>en-US</dc:language>
  <cp:lastModifiedBy/>
  <dcterms:modified xsi:type="dcterms:W3CDTF">2014-03-22T09:28:57Z</dcterms:modified>
  <cp:revision>9</cp:revision>
  <dc:subject/>
  <dc:title/>
</cp:coreProperties>
</file>