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D8FD-ED3C-4886-BEF7-878FD87D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3EC-7FD3-4F21-BF6B-2E5F8569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573-8088-4C92-9884-53328D0F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D8A-8B1D-4E08-BC12-1F20B211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5D9-CB26-4C13-9D94-CD1E0723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96B-055D-46EF-80EC-CDFF1D5A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0087-BFCF-4CF5-977F-EBF44214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487-A108-4DB9-A550-45F065BF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20C0-2BF5-4EA4-B607-41C27FDB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1F15-4127-451E-B450-E363844F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71F-6429-4342-B065-4124651C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29B-A966-41EA-8BAA-D6A47CA7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1EF83-2AC0-4272-AFB7-A9F6C5F9C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1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1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2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2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3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3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4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4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5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5%20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6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6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179280"/>
            <a:ext cx="6119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10:01:07Z</dcterms:created>
  <dc:creator/>
  <dc:description/>
  <dc:language>en-US</dc:language>
  <cp:lastModifiedBy/>
  <dcterms:modified xsi:type="dcterms:W3CDTF">2014-03-22T10:34:14Z</dcterms:modified>
  <cp:revision>14</cp:revision>
  <dc:subject/>
  <dc:title/>
</cp:coreProperties>
</file>