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FA0-336B-464A-88ED-9B8BCE79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66E-A58D-409E-9462-F92245FD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DB4-A1FA-47F7-AAE9-0BCCD68E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910-CCFA-4A5C-B5A1-1D4E94F0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574-04CA-404A-B253-BAFA763F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7B0-29BB-4C86-A105-E25354F9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622-C51E-47DA-8283-BB4BD5A0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BA8-9DB0-48D4-A8E3-3F2A498E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13A-7BD1-4808-9B36-E602B0E6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7B4-97F0-4D4D-A4D6-EC556AFB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FAB-BF03-4335-A096-DABE1418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A1A-9379-45C7-9076-88C056B3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BEDE9-084C-4ACC-8ACD-27CBD74D7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1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1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2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2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3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3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4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4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5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5%20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6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6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0:01:07Z</dcterms:created>
  <dc:creator/>
  <dc:description/>
  <dc:language>en-US</dc:language>
  <cp:lastModifiedBy/>
  <dcterms:modified xsi:type="dcterms:W3CDTF">2014-03-22T10:34:14Z</dcterms:modified>
  <cp:revision>14</cp:revision>
  <dc:subject/>
  <dc:title/>
</cp:coreProperties>
</file>