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19D-7DB7-4565-BA89-8D52001B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1D4-F011-4F45-B3DA-0B9B832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5B2-27E0-4995-AFF3-AFD34D7D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EB1-2F80-45DC-82AE-F9B03C7A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EED-BFED-4209-B49B-AF81503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FCD-9055-44BF-8E94-2A635FB6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040-7183-456A-B46B-F4DD2B0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6A8-FF5F-410B-947F-63E4E0A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23D-16EE-4C5A-AD4A-5F92F64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61A-1E62-4758-8178-31130AB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DA3-27F2-40F0-8F92-C7CB68F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117-D55D-410C-8A3F-449ACA9A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DE62F-4D46-4098-8CC4-D9584ED4C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cer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weet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ke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irdresse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verend%20John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xer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utcher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njurer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ctor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refighters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muel Pepy's Diary from Pudding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n and complete the informations on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9280"/>
            <a:ext cx="91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9640" y="360360"/>
            <a:ext cx="792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5392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9280"/>
            <a:ext cx="684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2:11:22Z</dcterms:created>
  <dc:creator>dominique  camier</dc:creator>
  <dc:description/>
  <dc:language>en-US</dc:language>
  <cp:lastModifiedBy>dominique  camier</cp:lastModifiedBy>
  <dcterms:modified xsi:type="dcterms:W3CDTF">2014-03-02T12:21:49Z</dcterms:modified>
  <cp:revision>10</cp:revision>
  <dc:subject/>
  <dc:title/>
</cp:coreProperties>
</file>