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02B-8E22-457E-927C-4DED89C0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CB3-6CE6-4A6B-A110-EF11188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1B8-6DE5-41CD-AFA4-247A302C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1B3-E5C8-492E-9203-6AA8F772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4C6-3F6B-4529-B8C6-FD4D8F34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35B-E457-449C-8D33-EA61555E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D3F-A2B0-4FE2-BA42-03D6140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478-8C51-4DB6-BA8A-CED2003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A5E-396C-4C76-A4B0-51D1386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5CA-6451-4A59-9024-CE7408F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8D5-DF2B-497A-B3D8-172D0FB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743-C3A7-4AC5-9FA4-CB4382B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544AB-6F1F-4FF4-9D1E-ED573B8F4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cer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weet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ke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irdresse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verend%20John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xer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cher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njurer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ctor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refighters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muel Pepy's Diary from Pudding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 and complete the informations on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9280"/>
            <a:ext cx="91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9640" y="360360"/>
            <a:ext cx="792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5392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9280"/>
            <a:ext cx="684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2:11:22Z</dcterms:created>
  <dc:creator>dominique  camier</dc:creator>
  <dc:description/>
  <dc:language>en-US</dc:language>
  <cp:lastModifiedBy>dominique  camier</cp:lastModifiedBy>
  <dcterms:modified xsi:type="dcterms:W3CDTF">2014-03-02T12:21:49Z</dcterms:modified>
  <cp:revision>10</cp:revision>
  <dc:subject/>
  <dc:title/>
</cp:coreProperties>
</file>